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7DD-6094-47C4-9E7F-DEBEBAA2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575-243D-42DE-B6B7-916E2E3B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F19-755A-421E-B808-2D490B66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797-AB53-4DBB-AEFE-8EC90D30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102E-7BA7-440E-80FA-2F4FE3F4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0F31-C638-4F3D-A87A-DB7CB0B3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D23A-E25E-49F2-AEA4-469F33ED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FD98-A0F7-49BC-A2EA-6FDA4102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7E5A-FB8A-4BC6-91D3-FE0EA249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FCF8-694D-47EA-A28F-AEB74E56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52BD-66C9-47DF-A2BB-3C6E7CA0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05E-96A5-4BD6-94D0-1AF8B83B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BCE5-DC6A-4C17-AC64-384462A2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C5B0-451E-4CF9-BEEE-9B279152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29F7-BD0B-4FA1-BB22-28DA8BC7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7556-F08F-4E70-A64F-3E476045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1164-60A8-4B32-8C46-412356EB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5F1F2-FA26-44A2-9909-CC93DA67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9FFB7-F81E-47B2-9853-9610AC85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475CD-D6DB-4733-AF30-2D3805E9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45454-7903-4D71-BE10-97AD258F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55ADE-319C-4E35-B403-79A32EDE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B4B-AD15-4909-8835-E548A773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378B5-8764-4A7B-AB6F-4BF43DF8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25B82-08C2-43DB-B2D4-76E6748E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A0DDB-6BF1-4075-A81B-5505430C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3F066-8F4E-4721-B1D6-31C34246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46F50-6F5C-47DE-9F80-8F03B246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0D6B5-BD47-411B-8811-9ECC5F6B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9EC3B-70D9-44A5-BF41-65F9EFA8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E7A16-6E73-43AC-BDE8-FE7D1C80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05D14-95AC-4A13-9434-42B77843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F7C62-A973-4EDE-A478-DFCB2596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82A-99C8-44BA-B023-72E3B349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5E7A9-92F5-497C-ADD7-106B54D9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60835-0F75-4C38-B9C2-065AA2E3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1D2B-39F1-4AA4-BC57-B91F22F7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3C6DB-C994-4CB6-B621-19C7E507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74258-EA33-4FC1-B47F-FAFD38E6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7AF40-E7DA-49C9-ABAE-5F10F648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EA847-AA5F-4ABE-B5F7-5963DB7D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011C6-655C-4087-AB9B-C3E713D1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5E77D-B696-43ED-9F38-DF085F82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A38DA-F100-4FA2-9253-9EC2B1B2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019-B87A-46C1-9AC7-23FDC1D8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001F1-6306-40FB-B56A-F1BF23B2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F08B5-2F52-4F3D-9656-0CF36FAF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4ACFA-DF8A-465A-8FC0-074B1019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24A9AE-353E-4FDC-943E-8E93EB00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8214A-2E80-4462-8551-2B6C9622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E7DD3-919F-489D-89F6-CC11E5E4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0C656-8A63-4F38-ACB0-D52D6DA8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90B12-ADE0-45B8-A20C-7916AFEE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EE2DC-038F-43FE-83C5-4B83E578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324B3-0B5B-47DC-AA4D-3F2D87AC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3E2-6DD0-44C5-85F4-ACF0C6B5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2F680-34F8-47E1-A427-03473689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FD958-FD30-4A16-8F8C-64847D86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825C7-AFC7-476A-A44D-22A73AB7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4D7AA-16CF-4DAC-B3E4-A954B01A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B421DF-D698-4066-A513-9E06BF3E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9D742-637D-4ABE-990F-DA1D3F7E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B1A24-F339-4E56-817E-0965583D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276A18-83C4-40B3-85E6-CA8F5E69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AE6DD-601E-4D3E-B851-4F7A2751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9A341D-643E-4929-8016-0C8BDBFD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1ED-4F8A-420B-96A9-4F5AB25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1B3ED-4459-4819-940C-18DAC4D8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C3B0E-0226-4BA9-BFC0-45EB463F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F5754-3E4B-4291-86AC-7449CCEF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FDAFB6-0DB7-46B2-8E98-74E1BFE7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4BA78-5F54-4D6D-9BE9-64C6A04D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3D764A-7113-439C-8EBB-0C13FAD2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12EEA-190E-490E-AF7B-1C38C0C1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11C9C-D4A3-4FC9-85E8-4AFD4B7C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C00692-4A3D-4722-B192-67FEF819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71B83-612B-4867-86BA-150BB38A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DF6-F2CA-4EBB-9DF5-08012A50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873BD1-CEFA-4EB5-AC53-4B3E256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0A34D-DFC9-4645-84C7-EF92491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45459-08C8-4E41-920B-BF3E4C7B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3B057-9A0D-4B8C-976A-97AA44BC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D5C8F-E7E4-47E1-B3A7-FE28962C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68C-3671-4215-B089-3265E704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D7D2-783E-4601-BD9E-131B098925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0D65-5FE2-4223-9CEE-2A760C2F46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7D15-DCEA-4A71-9F77-67FDB242B4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D25E-6686-48E5-B4D7-BA10759033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0442-BD3F-4192-B85C-D2DDA0F13C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ABEC-127B-4951-849F-8029C12C0A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152A-1916-43C7-BB84-BB94F46BCE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75f6d"/>
                </a:solidFill>
                <a:latin typeface="Century Schoolbook"/>
              </a:rPr>
              <a:t>WHO CONTROLS THE MEDIA</a:t>
            </a:r>
            <a:r>
              <a:rPr b="1" lang="en-GB" sz="3000" spc="-1" strike="noStrike">
                <a:solidFill>
                  <a:srgbClr val="575f6d"/>
                </a:solidFill>
                <a:latin typeface="Century Schoolbook"/>
              </a:rPr>
              <a:t>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75f6d"/>
                </a:solidFill>
                <a:latin typeface="Century Schoolbook"/>
              </a:rPr>
              <a:t>A Level Media Stud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26863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AGAZIN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o a content analysis of a popular glossy magaz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ow many pages are dedicated to advertising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ow does the magazine promote itself to potential advertiser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ho has the most power/influence over the content of the magazine – readers, producers or advertiser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410080" y="5257800"/>
            <a:ext cx="3733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ho constructs the representations we see in the medi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s it the institutions who produce the medi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r the audience who consume the medi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arket-liberalism v political-econo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ARKET-LIBERALIS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Stresses the power of the audience over media producer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Audience preference decides what media texts are produced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This is achieved through..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Purchase of media texts (CDs, magazines, computer game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Paying to access media texts (film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Taking out subscriptions that provide access to media texts (Sky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Recording hits on internet sit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Audience researc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ARKET-LIBERALIS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power lies with the audien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oducers have to be sensitive to audienc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914400" y="3219480"/>
            <a:ext cx="2819520" cy="32418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4876920" y="4191120"/>
            <a:ext cx="19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Schoolbook"/>
              </a:rPr>
              <a:t>Hillsborough tragedy – The Sun loses readers from Liverpo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OLITICAL-ECONOMIC PERSPECTIV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tresses the power of the media producers over media texts and their influence on an audien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market APPEARS to offer freedom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owever, there is inequality in whose interests the media oper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ose with more money  or those seen as more appealing to advertisers will have a range of media products orientated to their need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re are limits on the production of media texts for other group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OLITICAL-ECONOMIC PERSPECTIV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oducers tend to avoid risk, shunning innovation and originalit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ollywood cinema has a tendency to use tried and tested genres/styles/actors/directo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y also may avoid any representations that may be seen as challenging the values and ideologies of the audien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ADVERTISING AND SPONSORSHI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dvertising has had a major influence on the structure and output of the British print med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dvertising and sponsorship contributes a significant proportion of the revenue for many media produc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agazines – advertising revenue is 50 to 80 perce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edia producers focus on providing the media for the sectors of the population that the advertising industry wants to addre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s media is often produced to appeal to advertisers, it will always promote consumerism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OLITICAL-ECONOMY PERSPECTIV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Rather than media producers responding to audience needs and wants, they are packaging audiences to sell them to advertis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ees the power of media organisations as open to abus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ome media producers are seen as promoting particular political positions in their tex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ox news in USA – supports Republican party/Bush administr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edia producers silence or restrict certain political debates/issues/viewpoints being expressed to help support certain political agend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46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IMD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is website is a good example in which an audience is packaged and sold to advertis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re is heavy advertising and a link to Amazon, online sellers of DVDs, music and book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2286000" cy="2000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23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9:12:11Z</dcterms:created>
  <dc:creator>Colin Manson</dc:creator>
  <dc:description/>
  <dc:language>en-US</dc:language>
  <cp:lastModifiedBy>Colin Manson</cp:lastModifiedBy>
  <dcterms:modified xsi:type="dcterms:W3CDTF">2010-11-17T20:36:24Z</dcterms:modified>
  <cp:revision>8</cp:revision>
  <dc:subject/>
  <dc:title>Who Controls the Media?</dc:title>
</cp:coreProperties>
</file>